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137-8569-4375-96A2-FC265FD5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0A1-4ACB-4CB0-A162-08C3EB5F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7391-DE76-4B2B-8D36-833D62CA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3E6-1DCB-4F3A-B723-51EB71D5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0F4-7AC5-4CB8-8C3F-31E1EEB1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76F-23D8-4007-B74B-52404885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78F-434E-4174-BF05-EF8B1FD9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857-4308-4DD1-995A-197CDFD3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E5A-12AD-4836-9B6A-E3D62FB9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517-49CC-4532-BF12-E9B79746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C22-662A-42AC-BF25-49A0902A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FCFD-1606-41C7-B37D-24F822F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8275-44A2-49D2-9110-A7FCF3E27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HGRI_human_male_karyotype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Karyogram of human male using Giemsa staining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Baveuse"/>
              </a:rPr>
              <a:t>GENETIC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io 3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95680" y="151920"/>
            <a:ext cx="4191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LE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457200"/>
            <a:ext cx="3581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se traits were passed through gen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so called “Genes” to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ctors had two form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le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= different forms of the same g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: height gen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all &amp; short allel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pital letters = DOMINANT alle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wercase letters = recessive alle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Content Placeholder 6" descr="alleles.gif"/>
          <p:cNvPicPr/>
          <p:nvPr/>
        </p:nvPicPr>
        <p:blipFill>
          <a:blip r:embed="rId1"/>
          <a:stretch/>
        </p:blipFill>
        <p:spPr>
          <a:xfrm>
            <a:off x="4419720" y="3952800"/>
            <a:ext cx="4476600" cy="2905200"/>
          </a:xfrm>
          <a:prstGeom prst="rect">
            <a:avLst/>
          </a:prstGeom>
          <a:ln w="0">
            <a:noFill/>
          </a:ln>
        </p:spPr>
      </p:pic>
      <p:pic>
        <p:nvPicPr>
          <p:cNvPr id="150" name="Content Placeholder 5" descr="chromosome"/>
          <p:cNvPicPr/>
          <p:nvPr/>
        </p:nvPicPr>
        <p:blipFill>
          <a:blip r:embed="rId2"/>
          <a:stretch/>
        </p:blipFill>
        <p:spPr>
          <a:xfrm>
            <a:off x="4114800" y="685800"/>
            <a:ext cx="48769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mplest scenari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each trait an individual has two alleles (one from each parent).  In turn, each individual can only pass one or the other of its alleles to its offspring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ndel called this separation of alleles </a:t>
            </a:r>
            <a:r>
              <a:rPr b="1" i="1" lang="en-US" sz="4000" spc="-1" strike="noStrike">
                <a:solidFill>
                  <a:srgbClr val="800080"/>
                </a:solidFill>
                <a:latin typeface="Calibri"/>
              </a:rPr>
              <a:t>SEGREGAT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6" descr="mend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ual appearance (thin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o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y the trait shows it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 is the allele for tallness and t is the allele for a dwarf pla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- tall pla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-  tall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-   dwarf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Pheno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Geno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ctual genes you have for a tr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- (</a:t>
            </a:r>
            <a:r>
              <a:rPr b="1" i="1" lang="en-US" sz="3200" spc="-1" strike="noStrike">
                <a:solidFill>
                  <a:srgbClr val="800080"/>
                </a:solidFill>
                <a:latin typeface="Calibri"/>
              </a:rPr>
              <a:t>homozygous domina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- (</a:t>
            </a:r>
            <a:r>
              <a:rPr b="1" i="1" lang="en-US" sz="3200" spc="-1" strike="noStrike">
                <a:solidFill>
                  <a:srgbClr val="800080"/>
                </a:solidFill>
                <a:latin typeface="Calibri"/>
              </a:rPr>
              <a:t>heterozyg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- (</a:t>
            </a:r>
            <a:r>
              <a:rPr b="1" i="1" lang="en-US" sz="3200" spc="-1" strike="noStrike">
                <a:solidFill>
                  <a:srgbClr val="800080"/>
                </a:solidFill>
                <a:latin typeface="Calibri"/>
              </a:rPr>
              <a:t>homozygous reces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tters represent actual genes inherited (one from each parent)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ndel + Mei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Object 2"/>
          <p:cNvGraphicFramePr/>
          <p:nvPr/>
        </p:nvGraphicFramePr>
        <p:xfrm>
          <a:off x="609480" y="982800"/>
          <a:ext cx="807732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82800"/>
                    <a:ext cx="807732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Content Placeholder 5" descr="chromosome"/>
          <p:cNvPicPr/>
          <p:nvPr/>
        </p:nvPicPr>
        <p:blipFill>
          <a:blip r:embed="rId1"/>
          <a:stretch/>
        </p:blipFill>
        <p:spPr>
          <a:xfrm>
            <a:off x="5029200" y="1523880"/>
            <a:ext cx="3878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gor Men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371240"/>
            <a:ext cx="5334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rn 1822 in Czech Re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strian mo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d in the garden at the monaste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ed with the plants in the garden: PEA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foundation for Gen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kentsimmons.uwinnipeg.ca/cm1504/Image215.gif"/>
          <p:cNvPicPr/>
          <p:nvPr/>
        </p:nvPicPr>
        <p:blipFill>
          <a:blip r:embed="rId1"/>
          <a:stretch/>
        </p:blipFill>
        <p:spPr>
          <a:xfrm>
            <a:off x="5867280" y="457200"/>
            <a:ext cx="30481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lower reproduction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see Ch 24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5791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rtilization within same pl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f-pollina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men (m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h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ere meiosis makes poll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am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pel (fem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gm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icky, receptive p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y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ere meiosis makes eg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fertilization6"/>
          <p:cNvPicPr/>
          <p:nvPr/>
        </p:nvPicPr>
        <p:blipFill>
          <a:blip r:embed="rId1"/>
          <a:stretch/>
        </p:blipFill>
        <p:spPr>
          <a:xfrm>
            <a:off x="6019920" y="1066680"/>
            <a:ext cx="3124080" cy="434340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457200" y="5715000"/>
            <a:ext cx="752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w did Mendel cross pollinate the peas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ontent Placeholder 6" descr="pollinating.gif"/>
          <p:cNvPicPr/>
          <p:nvPr/>
        </p:nvPicPr>
        <p:blipFill>
          <a:blip r:embed="rId1"/>
          <a:stretch/>
        </p:blipFill>
        <p:spPr>
          <a:xfrm>
            <a:off x="7048440" y="3657600"/>
            <a:ext cx="2095560" cy="2314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Mendel’s Experi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del manuall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ross pollin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pea plants in his ga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used “true-breeding” pa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eant that those plants always produced offspring that looked identical to the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ould cross one type with an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alled the offspr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ybr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used seven traits in his experi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tion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 g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Mendel manually fertilized one pe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ant with another to produc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1 g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the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ilial gene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 let these offspring self-pollinate to produce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2 g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the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ilial gene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YI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animals: you can think of these 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 = your mom &amp; dad, F1 = you, F2 = your kids somed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genetic experiments, F2 does not have to be “selfed” but it often is.  This should be specif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ndel’s 7 Pea Tra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457200" y="1143000"/>
            <a:ext cx="8229600" cy="4982760"/>
            <a:chOff x="457200" y="1143000"/>
            <a:chExt cx="8229600" cy="4982760"/>
          </a:xfrm>
        </p:grpSpPr>
        <p:pic>
          <p:nvPicPr>
            <p:cNvPr id="96" name="Picture 11" descr="bio_ch11_4057"/>
            <p:cNvPicPr/>
            <p:nvPr/>
          </p:nvPicPr>
          <p:blipFill>
            <a:blip r:embed="rId1"/>
            <a:stretch/>
          </p:blipFill>
          <p:spPr>
            <a:xfrm>
              <a:off x="457200" y="1143000"/>
              <a:ext cx="8229600" cy="49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2"/>
            <p:cNvSpPr/>
            <p:nvPr/>
          </p:nvSpPr>
          <p:spPr>
            <a:xfrm>
              <a:off x="1096920" y="1328400"/>
              <a:ext cx="579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eed Shap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528960" y="1328400"/>
              <a:ext cx="65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Flower Positio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 Box 14"/>
            <p:cNvSpPr/>
            <p:nvPr/>
          </p:nvSpPr>
          <p:spPr>
            <a:xfrm>
              <a:off x="2919600" y="1328400"/>
              <a:ext cx="108612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7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eed Coa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7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ol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1977840" y="1328400"/>
              <a:ext cx="579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eed Col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5297400" y="1328400"/>
              <a:ext cx="579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od Col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17"/>
            <p:cNvSpPr/>
            <p:nvPr/>
          </p:nvSpPr>
          <p:spPr>
            <a:xfrm>
              <a:off x="7784280" y="1328400"/>
              <a:ext cx="579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lant Heigh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 Box 18"/>
            <p:cNvSpPr/>
            <p:nvPr/>
          </p:nvSpPr>
          <p:spPr>
            <a:xfrm>
              <a:off x="4102560" y="1328400"/>
              <a:ext cx="5792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7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o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7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hap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 Box 19"/>
            <p:cNvSpPr/>
            <p:nvPr/>
          </p:nvSpPr>
          <p:spPr>
            <a:xfrm>
              <a:off x="1091520" y="1893600"/>
              <a:ext cx="6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oun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 Box 20"/>
            <p:cNvSpPr/>
            <p:nvPr/>
          </p:nvSpPr>
          <p:spPr>
            <a:xfrm>
              <a:off x="984240" y="3668760"/>
              <a:ext cx="83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Wrinkl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 Box 21"/>
            <p:cNvSpPr/>
            <p:nvPr/>
          </p:nvSpPr>
          <p:spPr>
            <a:xfrm>
              <a:off x="1046160" y="5572080"/>
              <a:ext cx="6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oun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1951920" y="1893600"/>
              <a:ext cx="6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Yel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1913760" y="36687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2991960" y="1893600"/>
              <a:ext cx="52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a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 Box 25"/>
            <p:cNvSpPr/>
            <p:nvPr/>
          </p:nvSpPr>
          <p:spPr>
            <a:xfrm>
              <a:off x="2892600" y="366876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Whi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26"/>
            <p:cNvSpPr/>
            <p:nvPr/>
          </p:nvSpPr>
          <p:spPr>
            <a:xfrm>
              <a:off x="3979080" y="189360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moot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 Box 27"/>
            <p:cNvSpPr/>
            <p:nvPr/>
          </p:nvSpPr>
          <p:spPr>
            <a:xfrm>
              <a:off x="3905280" y="366876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onstrict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5226120" y="189360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29"/>
            <p:cNvSpPr/>
            <p:nvPr/>
          </p:nvSpPr>
          <p:spPr>
            <a:xfrm>
              <a:off x="5170320" y="3668760"/>
              <a:ext cx="6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Yel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30"/>
            <p:cNvSpPr/>
            <p:nvPr/>
          </p:nvSpPr>
          <p:spPr>
            <a:xfrm>
              <a:off x="6548400" y="189360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x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31"/>
            <p:cNvSpPr/>
            <p:nvPr/>
          </p:nvSpPr>
          <p:spPr>
            <a:xfrm>
              <a:off x="6501240" y="36687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ermin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32"/>
            <p:cNvSpPr/>
            <p:nvPr/>
          </p:nvSpPr>
          <p:spPr>
            <a:xfrm>
              <a:off x="7705080" y="189360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al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 Box 33"/>
            <p:cNvSpPr/>
            <p:nvPr/>
          </p:nvSpPr>
          <p:spPr>
            <a:xfrm>
              <a:off x="7742880" y="3668760"/>
              <a:ext cx="57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hor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Box 34"/>
            <p:cNvSpPr/>
            <p:nvPr/>
          </p:nvSpPr>
          <p:spPr>
            <a:xfrm>
              <a:off x="1911240" y="5572080"/>
              <a:ext cx="6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Yel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 Box 35"/>
            <p:cNvSpPr/>
            <p:nvPr/>
          </p:nvSpPr>
          <p:spPr>
            <a:xfrm>
              <a:off x="2920680" y="5572080"/>
              <a:ext cx="52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a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Box 36"/>
            <p:cNvSpPr/>
            <p:nvPr/>
          </p:nvSpPr>
          <p:spPr>
            <a:xfrm>
              <a:off x="3930480" y="557208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moot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5141520" y="557208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6498360" y="557208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x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649280" y="557208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al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Curved Right Arrow 33"/>
          <p:cNvSpPr/>
          <p:nvPr/>
        </p:nvSpPr>
        <p:spPr>
          <a:xfrm rot="3194400">
            <a:off x="1039680" y="73080"/>
            <a:ext cx="655560" cy="1630080"/>
          </a:xfrm>
          <a:custGeom>
            <a:avLst/>
            <a:gdLst>
              <a:gd name="textAreaLeft" fmla="*/ 87840 w 655560"/>
              <a:gd name="textAreaRight" fmla="*/ 567720 w 655560"/>
              <a:gd name="textAreaTop" fmla="*/ 360720 h 1630080"/>
              <a:gd name="textAreaBottom" fmla="*/ 1128240 h 163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66" stAng="-5400000" swAng="-5400000"/>
                <a:lnTo>
                  <a:pt x="0" y="10167"/>
                </a:lnTo>
                <a:arcTo wR="21600" hR="9566" stAng="10800000" swAng="-3585359"/>
                <a:lnTo>
                  <a:pt x="16200" y="21296"/>
                </a:lnTo>
                <a:lnTo>
                  <a:pt x="21600" y="19432"/>
                </a:lnTo>
                <a:lnTo>
                  <a:pt x="16200" y="16959"/>
                </a:lnTo>
                <a:lnTo>
                  <a:pt x="16200" y="18827"/>
                </a:lnTo>
                <a:arcTo wR="21600" hR="9566" stAng="7214641" swAng="3537512"/>
                <a:lnTo>
                  <a:pt x="11" y="9866"/>
                </a:lnTo>
                <a:arcTo wR="21600" hR="9566" stAng="-10752153" swAng="5352153"/>
                <a:close/>
              </a:path>
              <a:path fill="darkenLess" w="21600" h="21600">
                <a:moveTo>
                  <a:pt x="21600" y="0"/>
                </a:moveTo>
                <a:arcTo wR="21600" hR="9566" stAng="-5400000" swAng="-5400000"/>
                <a:lnTo>
                  <a:pt x="0" y="9566"/>
                </a:lnTo>
                <a:arcTo wR="21600" hR="9566" stAng="10800000" swAng="-47847"/>
                <a:lnTo>
                  <a:pt x="11" y="9866"/>
                </a:lnTo>
                <a:arcTo wR="21600" hR="9566" stAng="-10752153" swAng="535215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What happen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371240"/>
            <a:ext cx="5867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Mendel crossed one type by the other for each tra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g. Green x yellow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one of the traits showed up in the offsp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del called this trait </a:t>
            </a:r>
            <a:r>
              <a:rPr b="1" i="1" lang="en-US" sz="2800" spc="-1" strike="noStrike">
                <a:solidFill>
                  <a:srgbClr val="800080"/>
                </a:solidFill>
                <a:latin typeface="Calibri"/>
              </a:rPr>
              <a:t>DOMINA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the other variety of the trait gone forev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629400" y="609120"/>
            <a:ext cx="2209680" cy="495324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3"/>
          <p:cNvGrpSpPr/>
          <p:nvPr/>
        </p:nvGrpSpPr>
        <p:grpSpPr>
          <a:xfrm>
            <a:off x="6095880" y="1143000"/>
            <a:ext cx="2730240" cy="4571280"/>
            <a:chOff x="6095880" y="1143000"/>
            <a:chExt cx="2730240" cy="4571280"/>
          </a:xfrm>
        </p:grpSpPr>
        <p:graphicFrame>
          <p:nvGraphicFramePr>
            <p:cNvPr id="130" name="Object 2"/>
            <p:cNvGraphicFramePr/>
            <p:nvPr/>
          </p:nvGraphicFramePr>
          <p:xfrm>
            <a:off x="6095880" y="1143000"/>
            <a:ext cx="916200" cy="1523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1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5880" y="1143000"/>
                      <a:ext cx="916200" cy="152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Object 3"/>
            <p:cNvGraphicFramePr/>
            <p:nvPr/>
          </p:nvGraphicFramePr>
          <p:xfrm>
            <a:off x="8029080" y="1590840"/>
            <a:ext cx="622800" cy="97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029080" y="1590840"/>
                      <a:ext cx="622800" cy="97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Object 4"/>
            <p:cNvGraphicFramePr/>
            <p:nvPr/>
          </p:nvGraphicFramePr>
          <p:xfrm>
            <a:off x="6196320" y="2666520"/>
            <a:ext cx="714600" cy="881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5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96320" y="2666520"/>
                      <a:ext cx="714600" cy="8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Object 5"/>
            <p:cNvGraphicFramePr/>
            <p:nvPr/>
          </p:nvGraphicFramePr>
          <p:xfrm>
            <a:off x="7855200" y="2577240"/>
            <a:ext cx="970920" cy="10306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7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855200" y="2577240"/>
                      <a:ext cx="970920" cy="103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Object 6"/>
            <p:cNvGraphicFramePr/>
            <p:nvPr/>
          </p:nvGraphicFramePr>
          <p:xfrm>
            <a:off x="6590880" y="4190760"/>
            <a:ext cx="915840" cy="1523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39" name="Object 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590880" y="4190760"/>
                      <a:ext cx="915840" cy="152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Object 7"/>
            <p:cNvGraphicFramePr/>
            <p:nvPr/>
          </p:nvGraphicFramePr>
          <p:xfrm>
            <a:off x="7580520" y="4638960"/>
            <a:ext cx="714240" cy="8812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1" name="Object 7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580520" y="4638960"/>
                      <a:ext cx="714240" cy="8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AutoShape 11"/>
            <p:cNvSpPr/>
            <p:nvPr/>
          </p:nvSpPr>
          <p:spPr>
            <a:xfrm>
              <a:off x="7085160" y="3563280"/>
              <a:ext cx="769680" cy="627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AutoShape 12"/>
            <p:cNvSpPr/>
            <p:nvPr/>
          </p:nvSpPr>
          <p:spPr>
            <a:xfrm rot="2511600">
              <a:off x="7236000" y="2072520"/>
              <a:ext cx="439920" cy="358560"/>
            </a:xfrm>
            <a:prstGeom prst="plus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04-mendel-1st-exp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94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other trait from the P generation showed up again in the F2 gener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ndel called this trait </a:t>
            </a:r>
            <a:r>
              <a:rPr b="1" i="1" lang="en-US" sz="4000" spc="-1" strike="noStrike">
                <a:solidFill>
                  <a:srgbClr val="800080"/>
                </a:solidFill>
                <a:latin typeface="Calibri"/>
              </a:rPr>
              <a:t>RECESSIVE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ndel called this the </a:t>
            </a:r>
            <a:r>
              <a:rPr b="1" i="1" lang="en-US" sz="4000" spc="-1" strike="noStrike">
                <a:solidFill>
                  <a:srgbClr val="800080"/>
                </a:solidFill>
                <a:latin typeface="Calibri"/>
              </a:rPr>
              <a:t>Principal of Dominanc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some alleles are dominant &amp; some are recess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0:41:09Z</dcterms:created>
  <dc:creator>Joanne Lilliendahl</dc:creator>
  <dc:description/>
  <dc:language>en-US</dc:language>
  <cp:lastModifiedBy>udsd</cp:lastModifiedBy>
  <dcterms:modified xsi:type="dcterms:W3CDTF">2009-04-20T11:57:55Z</dcterms:modified>
  <cp:revision>14</cp:revision>
  <dc:subject/>
  <dc:title>GENETICS</dc:title>
</cp:coreProperties>
</file>